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2e"/>
            </a:gs>
            <a:gs pos="50000">
              <a:srgbClr val="003399"/>
            </a:gs>
            <a:gs pos="100000">
              <a:srgbClr val="000f2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2560" cy="6825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85800"/>
            <a:ext cx="290520" cy="617220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852040" y="609480"/>
            <a:ext cx="290520" cy="624708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71440" y="6551640"/>
            <a:ext cx="8601120" cy="304920"/>
          </a:xfrm>
          <a:prstGeom prst="rect">
            <a:avLst/>
          </a:prstGeom>
          <a:gradFill rotWithShape="0">
            <a:gsLst>
              <a:gs pos="0">
                <a:srgbClr val="00007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904760"/>
            <a:ext cx="8077320" cy="144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Evaluating Web Pages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WordArt 7"/>
          <p:cNvSpPr txBox="1"/>
          <p:nvPr/>
        </p:nvSpPr>
        <p:spPr>
          <a:xfrm rot="21502200">
            <a:off x="1676520" y="2133360"/>
            <a:ext cx="5457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56000"/>
                </a:gradFill>
                <a:latin typeface="Arial Black"/>
              </a:rPr>
              <a:t>Evaluating Web Pages</a:t>
            </a:r>
            <a:endParaRPr b="0" lang="en-US" sz="2400" spc="1" strike="noStrike">
              <a:ln w="1260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56000"/>
              </a:gradFill>
              <a:latin typeface="Arial Black"/>
              <a:ea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1430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echniques to apply 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questions to a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What can the link information tell you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38080" y="2666880"/>
            <a:ext cx="769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how many links there are.  Many link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ans that the site is valuable to oth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38080" y="49528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ad the information about the sites that link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ge.  Does the information deal with you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pic or the topic of the p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914400" y="3886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heck the domain extensions of the linking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tes.  What types of sites link to the p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Look up the author or the organization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enclosed in quotation marks in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Google.com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90720" y="4419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s there any information that may be helpfu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143000" y="30481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t may also be helpful to type in the article title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otation marks after the autho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Does it all add up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120" y="20574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Why was the page put on the we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219320" y="29718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nformation/Fac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143000" y="38098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ersua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219320" y="4724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ales to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219320" y="55627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Have you checked facts and statistics in a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non-internet source such as a library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book, an encyclopedia, or a textbook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371600" y="37339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oes the information agre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Now here is the last and most important question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219320" y="2743200"/>
            <a:ext cx="723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Is this web page as good or better than what you could find in a journal article, library database, book, or other published literature that is not on the free, general web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43000" y="22860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Is it somebody’s personal p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447920" y="3276720"/>
            <a:ext cx="64767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for 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rsonal 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a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~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%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the word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s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emb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1523880" y="4876920"/>
            <a:ext cx="632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onal pages are not necessarily bad, but you need to make sure you investigate the author more carefu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can the URL tell you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algn="ctr"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What type of domain extension does the site hav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23880" y="21337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overnment sites:  look f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go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mi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600200" y="30481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ducational sites: look f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e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523880" y="39625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profit organizations: look fo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676520" y="5638680"/>
            <a:ext cx="64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the domain extension appropriate for the content of the material you are looking f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00200" y="4724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ommercial site: look for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What is the domain name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371600" y="1600200"/>
            <a:ext cx="746748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heck the area of the URL between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and the first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447920" y="259092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Have you heard of the domain nam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fore?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295280" y="47242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Does the domain name correspond 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name of the site?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523880" y="59436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:     http://www.fda.gov/medwatch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447920" y="3657600"/>
            <a:ext cx="61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not, open a search engine and do 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arch of the domain n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can the page looking for answers to these questions: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838080" y="2057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Who wrote the p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295280" y="26668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ook for links that say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About U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hilosoph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Backgrou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143000" y="47242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Truncate back the UR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rying to find thi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ind of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85800" y="55627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tp://www.weather.com/newscenter/stormwatch/index.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1295280" y="3733920"/>
            <a:ext cx="723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ook for names of people, organizations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oups that claim responsi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Is there an e-mail address for the person,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group, or organization for further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contact?</a:t>
            </a:r>
            <a:br>
              <a:rPr sz="3200"/>
            </a:b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914400" y="342900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What credentials does the author or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group have to be an expert on this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subje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143000" y="54100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member:  Truncate back if there is no information on the p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6ff99"/>
                </a:solidFill>
                <a:latin typeface="Times New Roman"/>
              </a:rPr>
              <a:t>When was the page written?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71600" y="22860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Look for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e cre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295280" y="32004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ok for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te updat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09480" y="4267080"/>
            <a:ext cx="7162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Is this current enough for your needs or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might more recent information be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bet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ook for indicators of quality information.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914400" y="34290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Look for words lik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nks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dditional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s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Relate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inks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,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914400" y="45720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Look for links in the web page’s tex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600200" y="525780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ck the links to see if the links work and if they are relevant to the content of the original pag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990720" y="22096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Is the text grammatically correct and free 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of typo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do others say?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838080" y="18288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Times New Roman"/>
              </a:rPr>
              <a:t>Who links to this p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371600" y="25146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opy the URL of the page you ar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estig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447920" y="35812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Go to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Googl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447920" y="41911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e i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n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447920" y="4952880"/>
            <a:ext cx="69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aste the URL of the site immediate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ing link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447920" y="6095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Click on Go or press the Enter Ke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0:02:32Z</dcterms:created>
  <dc:creator>Tim and Delilah  Heil</dc:creator>
  <dc:description/>
  <dc:language>en-US</dc:language>
  <cp:lastModifiedBy>Burrell Allison</cp:lastModifiedBy>
  <dcterms:modified xsi:type="dcterms:W3CDTF">2013-02-22T12:57:56Z</dcterms:modified>
  <cp:revision>36</cp:revision>
  <dc:subject/>
  <dc:title>Evaluating Web Pages: </dc:title>
</cp:coreProperties>
</file>